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60C-D933-497C-B97E-339C982F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6CF-377F-4643-BEC8-1FA6FAB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195-9BBA-448D-ACE9-694D6D30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05F-970C-404A-8F79-C7FF0B61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FE12-92CD-400E-9A01-4F4B285A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E59-1C3C-418C-88EE-92EFFE9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382-3E0A-4397-AA68-5E35D97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E32-C32B-4B34-98A1-D5E7E7B4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ED89-0532-441E-A3C0-2B099959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4DB0-B97A-4090-A99B-291B235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47B5-03ED-4C82-9A46-D2DCF44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3D4-5F1D-4492-83FA-69503B2B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EDB-0A9E-47B5-B801-951A3E5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65F6-B64A-405D-BF6C-5D31DB7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073C-86E1-4DCF-99DE-1C11D85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57D2-1E48-49D2-9AC8-2766EDC6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F550-A0E5-411B-8DC2-7EBEFA2B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F9B31-C19A-44FD-BDE3-0B5BEDF13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ACA67-E5FF-4139-9693-A2A1B5A9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2D72B-4B95-46B6-9F50-DA710B4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557C9-98D3-4A0D-ADDA-2FC94A0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0DED4-BA49-46BD-8F62-3FD1A4BA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828-B502-41CC-88AB-96CD8BA0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CD8D0-FB4A-45DB-B496-6F9057E0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6DC1C-F95C-4170-AA75-E806CEFA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673F1-CC33-4E30-870F-6CD1604E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4E707-9BBD-4B36-AA0E-E5BD1E5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A922A-3BCB-40E8-ABEE-D7439D2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4BC5D-94A3-4471-9B20-865D94CD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ED267-CE26-47A3-A6DA-BDD65E702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182-9E19-4408-84E6-CDD8FC24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091-BB1B-4FC1-B526-42B9EDA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43B-2AED-40B7-BF21-DC14F0E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7E3-F02B-4B1F-84F7-E656A36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1D4-77CB-4FA5-B4F8-C170A84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093-6716-4E8E-9E06-C069D1FA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7798E-A923-4B98-AF28-7E2EDCE38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2068560"/>
            <a:ext cx="8278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56E29-0CAB-4186-B8FB-A3C7424B8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876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58360" y="6467400"/>
            <a:ext cx="1106280" cy="93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3280" y="7054920"/>
            <a:ext cx="8155080" cy="1440"/>
          </a:xfrm>
          <a:prstGeom prst="line">
            <a:avLst/>
          </a:prstGeom>
          <a:ln w="6480">
            <a:solidFill>
              <a:srgbClr val="0049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7056360"/>
            <a:ext cx="51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R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SPIRATION AND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R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OGNITION OF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IENCE AND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36600" cy="336600"/>
          </a:xfrm>
          <a:prstGeom prst="rect">
            <a:avLst/>
          </a:prstGeom>
          <a:solidFill>
            <a:srgbClr val="ec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204040" y="260280"/>
            <a:ext cx="1874880" cy="4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02920" y="168120"/>
            <a:ext cx="90709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800" spc="-1" strike="noStrike">
                <a:solidFill>
                  <a:srgbClr val="8a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8a8989"/>
                </a:solidFill>
                <a:latin typeface="Calibri"/>
                <a:ea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44600" y="6954840"/>
            <a:ext cx="2435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7725960" y="71564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a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B7895-1283-4BA4-BD70-E4299D932DF5}" type="slidenum">
              <a:rPr b="0" lang="en-US" sz="1200" spc="-1" strike="noStrike">
                <a:solidFill>
                  <a:srgbClr val="8a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usfirst.org/roboticsprograms/frc/2012-kit-of-parts-control-system" TargetMode="External"/><Relationship Id="rId3" Type="http://schemas.openxmlformats.org/officeDocument/2006/relationships/hyperlink" Target="http://first.wpi.edu/Images/CMS/First/WPI_Robotics_Library_Users_Guide.pdf" TargetMode="External"/><Relationship Id="rId4" Type="http://schemas.openxmlformats.org/officeDocument/2006/relationships/hyperlink" Target="http://firstforge.wpi.edu/sf/docman/do/listDocuments/projects.wpilib/docman.root.c_and_java_documentation" TargetMode="External"/><Relationship Id="rId5" Type="http://schemas.openxmlformats.org/officeDocument/2006/relationships/hyperlink" Target="https://decibel.ni.com/content/community/first/frc?view=documents#/?page=2" TargetMode="External"/><Relationship Id="rId6" Type="http://schemas.openxmlformats.org/officeDocument/2006/relationships/hyperlink" Target="http://www.chiefdelphi.com/forums/forumdisplay.php?f=51" TargetMode="External"/><Relationship Id="rId7" Type="http://schemas.openxmlformats.org/officeDocument/2006/relationships/hyperlink" Target="http://ncfrcteams.wikispaces.com/" TargetMode="External"/><Relationship Id="rId8" Type="http://schemas.openxmlformats.org/officeDocument/2006/relationships/hyperlink" Target="http://groups.yahoo.com/group/ncfrcteams/" TargetMode="External"/><Relationship Id="rId9" Type="http://schemas.openxmlformats.org/officeDocument/2006/relationships/hyperlink" Target="https://my.usfirst.org/myarea/index.lasso?page=searchresults&amp;omit_searchform=1&amp;results_size=250&amp;-session=myarea:C77D64051d9182C44AKkKs3C67D6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roduction, and a comparison of Java, C++ and Lab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David Page (dwpage@gmail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them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RobotTemplate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MyRobot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instead of tex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tu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trument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inee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in engineering and scientific lab work along with industrial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National Instruments – same company who makes the c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hora of FRC cod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view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labview_vis.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092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credits to WPI an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2012 FRC Control System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PI_Robotics_Library_Users_Guid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PI First F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 FRC Labview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hief Delphi Programming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C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NC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Your Other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I Robotic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vs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8600" y="1380960"/>
            <a:ext cx="952488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Se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937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5680" y="1512720"/>
            <a:ext cx="99154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Actu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8720" y="1846440"/>
            <a:ext cx="84297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/C++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– separates it from the ol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syntax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f the most popular programm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0"/>
            <a:ext cx="4827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/C++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5943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0:33:52Z</dcterms:created>
  <dc:creator/>
  <dc:description/>
  <dc:language>en-US</dc:language>
  <cp:lastModifiedBy/>
  <dcterms:modified xsi:type="dcterms:W3CDTF">2012-12-11T23:56:45Z</dcterms:modified>
  <cp:revision>13</cp:revision>
  <dc:subject/>
  <dc:title/>
</cp:coreProperties>
</file>